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B98D-95BF-441E-95D7-60725088C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77724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4074480"/>
            <a:ext cx="77724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0A74-7930-4A19-BD06-FA2997FA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40744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40744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361D-33BC-4D06-B617-C09178EEA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22096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22096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40744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40744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40744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8882-37E9-4C0C-A8CB-9F2B32757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6C3B2-56E6-444D-B0E0-C054129DA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98400" y="2209680"/>
            <a:ext cx="777240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38CC-920A-4A2D-AF0F-55B40395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77724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616E-DFB5-42C2-9195-0822854E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32716-AA1F-4383-808D-13163B71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071F-305B-4EB2-BB40-34593999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99BF-E9A2-49E6-A619-49C13252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8400" y="40744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76FF8-7A7D-4F1D-8E05-2B143BA3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2209680"/>
            <a:ext cx="777240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3818-5482-4B14-BE52-A7271465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1080" y="40744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8FDA-7B7F-41E0-BB95-11BFBDD8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98400" y="4074480"/>
            <a:ext cx="77724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A0F5-E180-4D48-A2BC-4639D8E0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77724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98400" y="4074480"/>
            <a:ext cx="77724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A4357-09F8-4712-9A9D-AC06C180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98400" y="40744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81080" y="40744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76917-939A-4E80-A706-6CC976832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26400" y="22096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54040" y="22096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98400" y="40744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26400" y="40744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54040" y="40744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9DD8-8C15-4074-91BC-E56FA0654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77724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8A79-FDCD-4C5B-92A3-7512AA4B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2D74-14EB-4ED0-BD0F-E31CF6F8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4194-E244-4A7A-B2CF-1FB4E888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C76B-0B7F-43ED-8A16-FA2A3DB8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40744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4B87-7059-4FD1-B64A-0DBA318D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40744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839C-727B-441C-806B-12EE8853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4074480"/>
            <a:ext cx="77724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DA09-27E8-472F-94A0-DC585FC3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2209680"/>
            <a:ext cx="77724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982800" indent="-19656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5920" indent="-1965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1769040" indent="-19656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1769040" indent="-19656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1769040" indent="-19656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A1E4-894B-4C73-8826-F560CEEBAA53}" type="slidenum"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0FC2-207F-42E4-B3BF-C0606444F9C6}" type="slidenum"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8" name="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Gatineau CE"/>
                <a:ea typeface="Times New Roman"/>
              </a:rPr>
              <a:t>Budování a distribuce knihovních fondů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Gatineau CE"/>
                <a:ea typeface="Times New Roman"/>
              </a:rPr>
              <a:t>a organizování výměnných souborů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Gatineau CE"/>
                <a:ea typeface="Times New Roman"/>
              </a:rPr>
              <a:t>v okrese Děčín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"/>
              </a:rPr>
              <a:t>Ladislav Zoube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Brno 23. – 24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 dubna 200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tineau CE"/>
              </a:rPr>
              <a:t>Okres Děčín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77724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počet obyvatel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133 768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počet obcí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5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počet veřejných knihoven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6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tineau CE"/>
              </a:rPr>
              <a:t>Knihovny okresu Děčín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77724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místní knihovny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45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profesionální knihovny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7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pobočky profesionálních knihoven</a:t>
            </a:r>
            <a:r>
              <a:rPr b="0" lang="cs-CZ" sz="3200" spc="-1" strike="noStrike">
                <a:solidFill>
                  <a:srgbClr val="eaeaea"/>
                </a:solidFill>
                <a:latin typeface="Gatineau CE"/>
              </a:rPr>
              <a:t>    </a:t>
            </a: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11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celke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6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fcc66"/>
                </a:solidFill>
                <a:latin typeface="Gatineau"/>
                <a:ea typeface="Times New Roman"/>
              </a:rPr>
              <a:t>Regionální funkce </a:t>
            </a:r>
            <a:br>
              <a:rPr sz="3200"/>
            </a:b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ffcc66"/>
                </a:solidFill>
                <a:latin typeface="Gatineau CE"/>
                <a:ea typeface="Times New Roman"/>
              </a:rPr>
              <a:t>mluvně uzavřená spolupráce</a:t>
            </a:r>
            <a:r>
              <a:rPr b="1" lang="cs-CZ" sz="3200" spc="-1" strike="noStrike">
                <a:solidFill>
                  <a:srgbClr val="ffcc66"/>
                </a:solidFill>
                <a:latin typeface="Gatineau"/>
                <a:ea typeface="Times New Roman"/>
              </a:rPr>
              <a:t> (od r. 1996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77724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oblast Děčín</a:t>
            </a:r>
            <a:r>
              <a:rPr b="0" lang="cs-CZ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30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31440" indent="-242640" algn="just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Gatineau"/>
                <a:ea typeface="Times New Roman"/>
              </a:rPr>
              <a:t>z toho 3 profesionál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314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oblast Varnsdorf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18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31440" indent="-242640" algn="just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Gatineau"/>
                <a:ea typeface="Times New Roman"/>
              </a:rPr>
              <a:t>z toho 1 profesionál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314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celke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48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31440" indent="-242640" algn="just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Gatineau"/>
                <a:ea typeface="Times New Roman"/>
              </a:rPr>
              <a:t>z toho 4 profesionál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fcc66"/>
                </a:solidFill>
                <a:latin typeface="Gatineau"/>
                <a:ea typeface="Times New Roman"/>
              </a:rPr>
              <a:t>Regionální funkce </a:t>
            </a:r>
            <a:br>
              <a:rPr sz="3200"/>
            </a:b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ffcc66"/>
                </a:solidFill>
                <a:latin typeface="Gatineau CE"/>
                <a:ea typeface="Times New Roman"/>
              </a:rPr>
              <a:t>mluvně uzavřená spolupráce</a:t>
            </a:r>
            <a:r>
              <a:rPr b="1" lang="cs-CZ" sz="3200" spc="-1" strike="noStrike">
                <a:solidFill>
                  <a:srgbClr val="ffcc66"/>
                </a:solidFill>
                <a:latin typeface="Gatineau"/>
                <a:ea typeface="Times New Roman"/>
              </a:rPr>
              <a:t> (od r. 1996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77724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-18504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počet obyvatel v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 obcích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s 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uzavřen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ými smlouvami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51 00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-18504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celková finanční dotace obcí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na knižní fond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1 050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 000,- Kč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-18504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nakoupený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a zpracovaný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knižní fond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 (včetně darů)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7 737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-1850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Gatineau"/>
                <a:ea typeface="Times New Roman"/>
              </a:rPr>
              <a:t>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rganizace výměnných souborů (r.2001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98400" y="2209680"/>
          <a:ext cx="7772400" cy="350532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89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počet souborů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svazky v nic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blast Děčín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558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4 010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9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blast Varnsdorf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628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9 076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celkem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186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3 086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dnota knih ve VF (r.2001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447920" y="1905120"/>
          <a:ext cx="6247800" cy="4419000"/>
        </p:xfrm>
        <a:graphic>
          <a:graphicData uri="http://schemas.openxmlformats.org/drawingml/2006/table">
            <a:tbl>
              <a:tblPr/>
              <a:tblGrid>
                <a:gridCol w="3123720"/>
                <a:gridCol w="3124080"/>
              </a:tblGrid>
              <a:tr h="11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hodnota v Kč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2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blast Děčín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 4141 742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blast Varnsdorf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844 562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celkem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 259 304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07:57:08Z</dcterms:created>
  <dc:creator>Mgr.Alena Otrubová</dc:creator>
  <dc:description/>
  <dc:language>en-US</dc:language>
  <cp:lastModifiedBy>Mgr.Alena Otrubová</cp:lastModifiedBy>
  <dcterms:modified xsi:type="dcterms:W3CDTF">2002-04-19T08:01:35Z</dcterms:modified>
  <cp:revision>4</cp:revision>
  <dc:subject/>
  <dc:title>Budování a distribuce knihovních fondů a organizování výměnných souborů v okrese Děčín </dc:title>
</cp:coreProperties>
</file>