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D3F6-0036-4FBA-B6D9-68892B1664A3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abývat 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ákladní informace o okrese a knihovnách - Možnost srovnání s vlastními okres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známit s vlastním systémem tvorby a distribuce soubor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k vidíme budoucnost V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 měla auto asi před 30 lety, od té doby tax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kus o spolupráci se zřizovatelem – časté ruše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zavřena smlouva s Jihočeskou vědeckou knihovn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íme objem prostředků pro letošní r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ůžeme jasně formulovat cí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ihovny chtějí aktuální fond, pro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ktualizovat současný fo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ýrazně doplnit fond nov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dávat rovnoměrně na všechny knihov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řesně evidovat a využít výhod PC programu – ochrana fon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pecisika skladby okresu – mnoho malinkých obcí s malým počtem obyva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šechny MLK nepracují – neochota zruš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rofi knihovny – městské a střediskov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obočky – pouze OK, dvě MK, ostatní profi na necelý úvaz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d r. 1975 do 1996 – financování nákupu z OK celookresn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1199"/>
              </a:spcBef>
              <a:buClr>
                <a:srgbClr val="000000"/>
              </a:buClr>
              <a:buFont typeface="Times New Roman"/>
              <a:buAutoNum type="arabicPlain" startAt="199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konomické balíčky – zastavení nákupu pro ostatní knihov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brovský dopad na výměnné fon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řediskový systém od r. 19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zůstatek systému stá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ýměnný fond OK už od  r. 1950 (doplňovací oddělení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ýměnné fondy vždy budovány ve střediskách, původně za peníze od O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yní rozdíl ve financování náku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čet knihoven v obvodech dán historickým vývoj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lední profesionalizované knihovny – nejmenší obvody – není celý úvaz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vě poslední profesionalizované knihovny – nejmenší – nebuduj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užití VF 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97 – zvrat v budování – stop financím ze státních prostředk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ontinuita pouze u OK – 2001 – 60 tis. na V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ýjimka OK, doplňuje i bez sdružování prostředků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lké rozdíly v počtech souborů i svazků v nich vzhledem k obrovským rozdílem ve velikosti soubor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ěkterá střediska nechávají část souborů v knihovnách dé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ůměrná čísla shrnují velký rozdíl – od 3 do 40 souborů – dáno počtem knihoven v obvo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DDFC-6183-4C31-99CF-0E7E50581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A042-8F52-47B0-BE2C-31CD7F21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45C5-DC23-4EA3-9CF2-F2B5EC4FF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6FCA-DAED-40E3-BC26-0CD6A7B03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354B-FCA3-4AEB-9EB8-3AF0C73B5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8116-0075-4A5C-922A-0B8A07D8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80B9-B9CD-4727-9447-19851791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B8A5-68BF-4F0E-A561-F0BA1C36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F83C-7101-4A24-8106-35B5F0C5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526B-7DBA-4AB4-B5D0-1C4C3386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79D5-6520-43F7-B362-4EC6F85A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7D3E-27B9-4270-8064-AF9DFB50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A742-3CD8-4959-9B11-5AE01F46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D7F8-27EE-4497-94BB-0909CF96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1B2B-11A9-4F8C-B1DF-6B7E77A3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B31B-AB9B-437F-B6D2-ED4C8F41C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1E2A-2521-45D1-8256-194A12318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4E4E-FC18-4BCB-A970-5AEB5D96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DA20-8B64-4CAC-B07C-FA0D1407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F437-FBEE-4FDB-8F5F-7E7EBCDF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7F62-9547-4283-94A9-1823E306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F644-3775-4D44-81AB-32248D23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D27A-0B53-438A-9F14-AEE3D081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2D26-2C61-472D-BA62-B51CAD08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70880" indent="-4708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56880" indent="-329760">
              <a:lnSpc>
                <a:spcPct val="13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11840" indent="-1987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67160" indent="-198720">
              <a:lnSpc>
                <a:spcPct val="13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21760" indent="-1987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21760" indent="-19872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21760" indent="-19872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662D-1502-4CC9-9B76-7F0583818B13}" type="datetime">
              <a:rPr b="0" lang="cs-CZ" sz="1200" spc="-1" strike="noStrike">
                <a:solidFill>
                  <a:srgbClr val="ffffff"/>
                </a:solidFill>
                <a:latin typeface="Tahoma"/>
              </a:rPr>
              <a:t>28.07.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63EE-DDA2-4866-9DFB-C99D5AA0A223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9A23-352E-44BA-BA43-AAB22A7AE3F7}" type="datetime">
              <a:rPr b="0" lang="cs-CZ" sz="1200" spc="-1" strike="noStrike">
                <a:solidFill>
                  <a:srgbClr val="ffffff"/>
                </a:solidFill>
                <a:latin typeface="Tahoma"/>
              </a:rPr>
              <a:t>28.07.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47D3-85C2-4260-8693-D02D7E86CB66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365040" algn="ctr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316080" algn="ctr">
              <a:lnSpc>
                <a:spcPct val="13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66760" algn="ctr">
              <a:lnSpc>
                <a:spcPct val="13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6676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6676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vkta.cz/" TargetMode="External"/><Relationship Id="rId2" Type="http://schemas.openxmlformats.org/officeDocument/2006/relationships/hyperlink" Target="http://www.vkta.cz/" TargetMode="External"/><Relationship Id="rId3" Type="http://schemas.openxmlformats.org/officeDocument/2006/relationships/hyperlink" Target="http://www.vkta.cz/" TargetMode="External"/><Relationship Id="rId4" Type="http://schemas.openxmlformats.org/officeDocument/2006/relationships/hyperlink" Target="http://www.vkta.cz/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Budování</a:t>
            </a:r>
            <a:r>
              <a:rPr b="1" lang="en-US" sz="5400" spc="-1" strike="noStrike">
                <a:solidFill>
                  <a:srgbClr val="ffffcc"/>
                </a:solidFill>
                <a:latin typeface="Arial"/>
                <a:ea typeface="Arial"/>
              </a:rPr>
              <a:t> a distribuce výměnných fon</a:t>
            </a:r>
            <a:r>
              <a:rPr b="1" lang="en-US" sz="54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1" lang="en-US" sz="5400" spc="-1" strike="noStrike">
                <a:solidFill>
                  <a:srgbClr val="ffffcc"/>
                </a:solidFill>
                <a:latin typeface="Arial"/>
                <a:ea typeface="Arial"/>
              </a:rPr>
              <a:t>ů</a:t>
            </a:r>
            <a:br>
              <a:rPr sz="5400"/>
            </a:br>
            <a:r>
              <a:rPr b="1" lang="en-US" sz="5400" spc="-1" strike="noStrike">
                <a:solidFill>
                  <a:srgbClr val="ffffcc"/>
                </a:solidFill>
                <a:latin typeface="Arial"/>
                <a:ea typeface="Times New Roman"/>
              </a:rPr>
              <a:t>v okrese Tábor</a:t>
            </a: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na Otrub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rno 23. – 24. dubna 200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elikost výměnných fondů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63680" y="1627200"/>
          <a:ext cx="8215200" cy="482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627200"/>
                    <a:ext cx="821520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istribuce VF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ihovníci M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užití dopravy O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užití taxislužby – hradí 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i Táb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i ostatních mě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oprava tax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užití tax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o potřeby OK – nákup, sběr apo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etodická činnost – dostupnost ob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rozvoz výměnných soubor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ýh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malé nákla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08040" indent="-228600">
              <a:lnSpc>
                <a:spcPct val="12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držba, pohonné hmoty, plat řidič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hrazeno za dopravu  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25 tis. K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Jak dál 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ýkon regionálních funkcí z jednoho mís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lavní úkoly knihov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mapovat stav jednotlivých středis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ílit výměnný fond, aktualizovat stávajíc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stranit disproporce v počtu dodávaných svazk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ajistit přesnou evidenci souborů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Kontak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Alena Otrubov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kresní knihovna v Táboře - </a:t>
            </a:r>
            <a:r>
              <a:rPr b="0" lang="cs-CZ" sz="2400" spc="-1" strike="noStrike" u="sng">
                <a:solidFill>
                  <a:srgbClr val="ffcc66"/>
                </a:solidFill>
                <a:uFillTx/>
                <a:latin typeface="Arial"/>
                <a:hlinkClick r:id="rId1"/>
              </a:rPr>
              <a:t>www.</a:t>
            </a:r>
            <a:r>
              <a:rPr b="0" lang="cs-CZ" sz="2400" spc="-1" strike="noStrike" u="sng">
                <a:solidFill>
                  <a:srgbClr val="ffcc66"/>
                </a:solidFill>
                <a:uFillTx/>
                <a:latin typeface="Arial"/>
                <a:hlinkClick r:id="rId2"/>
              </a:rPr>
              <a:t>vkta</a:t>
            </a:r>
            <a:r>
              <a:rPr b="0" lang="cs-CZ" sz="2400" spc="-1" strike="noStrike" u="sng">
                <a:solidFill>
                  <a:srgbClr val="ffcc66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2400" spc="-1" strike="noStrike" u="sng">
                <a:solidFill>
                  <a:srgbClr val="ffcc66"/>
                </a:solidFill>
                <a:uFillTx/>
                <a:latin typeface="Arial"/>
                <a:hlinkClick r:id="rId4"/>
              </a:rPr>
              <a:t>c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iráskova 1775, 390 01 Táb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tel.:0361/252853, e-mail: otrubova@vkta.c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vktalogo%5B1%5D" descr=""/>
          <p:cNvPicPr/>
          <p:nvPr/>
        </p:nvPicPr>
        <p:blipFill>
          <a:blip r:embed="rId5"/>
          <a:stretch/>
        </p:blipFill>
        <p:spPr>
          <a:xfrm>
            <a:off x="7848720" y="5105520"/>
            <a:ext cx="10317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  <a:ea typeface="Arial"/>
              </a:rPr>
              <a:t>Okres Tábo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t obyvatel okres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3 46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čet obyvatel Tábor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36 80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t obc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1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t knihov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13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očet knihoven okresu T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místní knihovn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120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fesionální knihovn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kresní knihovna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bočk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elkem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    13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Řízení knihov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řizovatel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kresní knihovna – Okresní úřad v Táboř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tatní knihovny – příslušné ob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ncován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acovníci – okresní knihov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tatní (fond, provoz atd.) – zřizovatel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etodická činnos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831708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esionál. knihoven včetně OK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3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 toho středisková funk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11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dují výměnné fond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etodická činnos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49200" y="1463760"/>
          <a:ext cx="8443800" cy="48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1463760"/>
                    <a:ext cx="8443800" cy="48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ýměnné fond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čet střediskových knihoven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Budují výměnné fondy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Financování náku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átní prostředky ( OK )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granty MK Č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0160" indent="-379440">
              <a:lnSpc>
                <a:spcPct val="13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družování prostředk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družování prostředků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čet obvodů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čet obc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  25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elkem Kč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40 5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statní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Arial"/>
              </a:rPr>
              <a:t>nedoplňují V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ýměnné soubory v r. 200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čet MLK (VF)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1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čet souborů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23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čet svazků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19 13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ůměr soubory/obvod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-5414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ůměr svazky/soubor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8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5T11:24:12Z</dcterms:created>
  <dc:creator>Mgr.Alena Otrubová</dc:creator>
  <dc:description/>
  <dc:language>en-US</dc:language>
  <cp:lastModifiedBy>Mgr.Alena Otrubová</cp:lastModifiedBy>
  <dcterms:modified xsi:type="dcterms:W3CDTF">2002-04-19T08:02:28Z</dcterms:modified>
  <cp:revision>23</cp:revision>
  <dc:subject/>
  <dc:title>Tvorba a distribuce výměnných fondů v okrese Tábor </dc:title>
</cp:coreProperties>
</file>