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7DE6-A08B-44CD-A274-254A4742D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6C0-11F8-44E6-B54E-041F930E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313E-25F4-4054-8614-2F9CD7A9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882-C788-4662-8FE5-EA199D70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9EA8-2DB7-4948-8991-FFBD2902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87A6-733E-4011-B8E9-D7B8D8E9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7030-CEA6-42A8-B9FF-CBA88F3B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C3C6-A6CD-4F67-86DE-FAA2633E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91EC-4129-4D81-8F05-CBB99443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75AB-D20E-4F79-92EC-673705F1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F366-F82B-4BFE-ACE3-36D3316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5C6-2148-473F-B15E-AF430553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E3B3-B6C4-48D0-BBDC-D8EEDD13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4C93-AE1F-4B5E-9B64-7BD07266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6A88-F73D-44DD-A268-55E654D2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4814-C1C2-4097-B7C5-A4124E45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22096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4074480"/>
            <a:ext cx="250236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E3CB-2C70-4911-8D0B-4E53F0BD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BD2-B6AE-498B-81B8-EC9EA40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0DAD-3A46-48F7-A3EF-CFD28116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D8A-E291-4209-AE17-8EED36EB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3D6-8620-4AAF-BD74-B911AD8F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C2C-2D0B-4B55-9456-8F528D1A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40744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BA4-A594-44E1-9D27-02FBDC7F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2209680"/>
            <a:ext cx="37926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4074480"/>
            <a:ext cx="7772400" cy="170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FE6-9E1B-4108-977A-40AA72F2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503-8AF1-42EE-B5BB-C93273433E0F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A833-3304-4D1E-A292-40505E1D7FFA}" type="slidenum">
              <a:rPr b="0" lang="cs-CZ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Budování a distribuce knihovních fondů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a organizování výměnných souborů</a:t>
            </a:r>
            <a:br>
              <a:rPr sz="3600"/>
            </a:br>
            <a:r>
              <a:rPr b="1" lang="en-US" sz="36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v okrese Děčín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</a:rPr>
              <a:t>Ladislav Zoube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Brno 23. – 2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 dubna 200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Okres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33 76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cí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veřejných knihoven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tineau CE"/>
              </a:rPr>
              <a:t>Knihovny okresu Děčí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míst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profesionální knihovny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bočky profesionálních knihove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1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6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oblast Děčín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30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3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oblast Varnsdorf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8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1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celke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4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z toho 4 profesionál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Regionální funkce </a:t>
            </a:r>
            <a:br>
              <a:rPr sz="3200"/>
            </a:b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ffcc66"/>
                </a:solidFill>
                <a:latin typeface="Gatineau CE"/>
                <a:ea typeface="Times New Roman"/>
              </a:rPr>
              <a:t>mluvně uzavřená spolupráce</a:t>
            </a:r>
            <a:r>
              <a:rPr b="1" lang="cs-CZ" sz="3200" spc="-1" strike="noStrike">
                <a:solidFill>
                  <a:srgbClr val="ffcc66"/>
                </a:solidFill>
                <a:latin typeface="Gatineau"/>
                <a:ea typeface="Times New Roman"/>
              </a:rPr>
              <a:t> (od r. 1996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209680"/>
            <a:ext cx="777240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počet obyvatel v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 obcí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s 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uzavřen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ými smlouvami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51 00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 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celková finanční dotace obcí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na 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1 050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000,- Kč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nakoupený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a zpracovan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knižní fond</a:t>
            </a:r>
            <a:r>
              <a:rPr b="0" lang="en-US" sz="3200" spc="-1" strike="noStrike">
                <a:solidFill>
                  <a:srgbClr val="eaeaea"/>
                </a:solidFill>
                <a:latin typeface="Gatineau CE"/>
                <a:ea typeface="Times New Roman"/>
              </a:rPr>
              <a:t> (včetně darů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eaeaea"/>
                </a:solidFill>
                <a:latin typeface="Gatineau"/>
                <a:ea typeface="Times New Roman"/>
              </a:rPr>
              <a:t>7 73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185040" indent="-185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Gatinea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Gatineau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rganizace výměnných souborů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98400" y="2209680"/>
          <a:ext cx="7772400" cy="35053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počet souborů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vazky v nich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5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4 010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628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9 07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1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3 086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dnota knih ve VF (r.2001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447920" y="1905120"/>
          <a:ext cx="6247800" cy="4419000"/>
        </p:xfrm>
        <a:graphic>
          <a:graphicData uri="http://schemas.openxmlformats.org/drawingml/2006/table">
            <a:tbl>
              <a:tblPr/>
              <a:tblGrid>
                <a:gridCol w="3123720"/>
                <a:gridCol w="3124080"/>
              </a:tblGrid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hodnota v Kč</a:t>
                      </a:r>
                      <a:endParaRPr b="0" lang="en-US" sz="4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Děčín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 4141 742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blast Varnsdorf</a:t>
                      </a:r>
                      <a:endParaRPr b="0" lang="en-US" sz="3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844 562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celkem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2 259 304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7:57:08Z</dcterms:created>
  <dc:creator>Mgr.Alena Otrubová</dc:creator>
  <dc:description/>
  <dc:language>en-US</dc:language>
  <cp:lastModifiedBy>Mgr.Alena Otrubová</cp:lastModifiedBy>
  <dcterms:modified xsi:type="dcterms:W3CDTF">2002-04-19T08:01:35Z</dcterms:modified>
  <cp:revision>4</cp:revision>
  <dc:subject/>
  <dc:title>Budování a distribuce knihovních fondů a organizování výměnných souborů v okrese Děčín </dc:title>
</cp:coreProperties>
</file>