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BDE2-5EC2-4C3D-B92B-0144BB337C0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bývat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kladní informace o okrese a knihovnách - Možnost srovnání s vlastními okre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známit s vlastním systémem tvorby a distribuce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idíme budoucnost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 měla auto asi před 30 lety, od té doby ta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us o spolupráci se zřizovatelem – časté ruš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zavřena smlouva s Jihočeskou vědeckou knihov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íme objem prostředků pro letošní 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ůžeme jasně formulovat cí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ihovny chtějí aktuální fond, pr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alizovat současný 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razně doplnit fond nov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dávat rovnoměrně na všechny knihov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esně evidovat a využít výhod PC programu – ochrana fo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cisika skladby okresu – mnoho malinkých obcí s malým počtem obyv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šechny MLK nepracují – neochota zruš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fi knihovny – městské a středisko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bočky – pouze OK, dvě MK, ostatní profi na ne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r. 1975 do 1996 – financování nákupu z OK celookres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Times New Roman"/>
              <a:buAutoNum type="arabicPlain" startAt="199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nomické balíčky – zastavení nákupu pro ostatní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ovský dopad na výměnné fo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ediskový systém od r.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zůstatek systému stá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ý fond OK už od  r. 1950 (doplňovací odděle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é fondy vždy budovány ve střediskách, původně za peníze od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yní rozdíl ve financování ná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čet knihoven v obvodech dán historickým vývoj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lední profesionalizované knihovny – nejmenší obvody – není 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ě poslední profesionalizované knihovny – nejmenší – nebuduj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žití VF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zvrat v budování – stop financím ze státních prostřed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tinuita pouze u OK – 2001 – 60 tis. na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jimka OK, doplňuje i bez sdružování prostředk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ké rozdíly v počtech souborů i svazků v nich vzhledem k obrovským rozdílem ve velikosti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ěkterá střediska nechávají část souborů v knihovnách dé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ůměrná čísla shrnují velký rozdíl – od 3 do 40 souborů – dáno počtem knihoven v obv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CBF-E481-4D60-8FEE-9BF7033B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D3A-B7E6-4408-8587-A2A3F7F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FD3-84AD-4548-AE50-0477BE6D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73F-C531-43FA-9E15-8C71B577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3462-1D69-46B2-BC53-31FE0F09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E57B-F42A-4A91-A745-A4212DD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5849-A034-48E6-B2E6-9744BFBA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FED-D65B-44AD-8C26-6B7441EE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A03-7FE0-4E32-9AFD-A3B174D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B45-E880-4223-8275-AE7BE2FD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D9A5-136D-4570-8CE1-519FE356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750-0D1E-40FB-BB4C-286C751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F37B-F7EA-49C9-A891-6E8F9E7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249-9BC1-4973-9F36-48096746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083B-3032-4927-AAC3-1987967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6476-A2B3-4EDD-BCFB-1B5D78B8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8F1A-5E48-4824-81CA-E724CF64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191-09F8-435D-B72E-B541CB02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75A-BA8A-4E21-B202-B37285A3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096-B2E5-4107-8B42-36D778AD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EE3-69E8-42BB-A1D2-B2AF0858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8A1-408A-4651-9252-6521ACA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439-AD2C-492B-95BE-47433FC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2C6-B317-4B47-A44B-63277AC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70880" indent="-470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32976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84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7160" indent="-19872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2176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A29B-C931-47DE-A1B2-A329160B0818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31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D37A-D7F4-4066-AB40-24DAE9B0A68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E7B-B5E1-4AE1-ACC3-FD649B8E8712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31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CD2C-FED0-4DCC-9CE1-71DB70B596C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65040" algn="ctr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316080" algn="ctr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66760" algn="ctr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kta.cz/" TargetMode="External"/><Relationship Id="rId2" Type="http://schemas.openxmlformats.org/officeDocument/2006/relationships/hyperlink" Target="http://www.vkta.cz/" TargetMode="External"/><Relationship Id="rId3" Type="http://schemas.openxmlformats.org/officeDocument/2006/relationships/hyperlink" Target="http://www.vkta.cz/" TargetMode="External"/><Relationship Id="rId4" Type="http://schemas.openxmlformats.org/officeDocument/2006/relationships/hyperlink" Target="http://www.vkta.cz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Budování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 a distribuce výměnných fon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ů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Times New Roman"/>
              </a:rPr>
              <a:t>v okrese Tábor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no 23. – 24. dubna 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likost výměnných fond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3680" y="1627200"/>
          <a:ext cx="8215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7200"/>
                    <a:ext cx="82152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stribuce V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hovníci M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dopravy O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taxislužby – hradí 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Tá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ostatních mě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prava ta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užití tax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 potřeby OK – nákup, sběr a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todická činnost – dostupnost ob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voz výměnných soubo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é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8040" indent="-22860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držba, pohonné hmoty, plat řidič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hrazeno za dopravu  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25 tis. K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k dál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kon regionálních funkcí z jednoho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vní úkoly knihov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apovat stav jednotlivých středi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ílit výměnný fond, aktualizovat stávají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stranit disproporce v počtu dodávaných svaz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jistit přesnou evidenci soubo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kresní knihovna v Táboře -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vkta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iráskova 1775, 390 01 Tá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l.:0361/252853, e-mail: otrubova@vkta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vktalogo%5B1%5D" descr=""/>
          <p:cNvPicPr/>
          <p:nvPr/>
        </p:nvPicPr>
        <p:blipFill>
          <a:blip r:embed="rId5"/>
          <a:stretch/>
        </p:blipFill>
        <p:spPr>
          <a:xfrm>
            <a:off x="7848720" y="5105520"/>
            <a:ext cx="1031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Okres Táb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yvatel okre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3 4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et obyvatel Táb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36 8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c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kniho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et knihoven okresu 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2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kresní knihov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bočk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Řízení knihov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izo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resní knihovna – Okresní úřad v Tábo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knihovny – příslušné o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ová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níci – okresní knihov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(fond, provoz atd.) – zřizovate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ionál. knihoven včetně O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toho středisková funk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1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9200" y="1463760"/>
          <a:ext cx="84438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63760"/>
                    <a:ext cx="84438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fon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třediskových knihov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cování náku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ní prostředky ( OK 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ranty MK Č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ružování prostřed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družování prostřed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v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c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25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 Kč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0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edoplňují V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soubory v r.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MLK (VF)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oubo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vaz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9 1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oubory/obv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vazky/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1:24:12Z</dcterms:created>
  <dc:creator>Mgr.Alena Otrubová</dc:creator>
  <dc:description/>
  <dc:language>en-US</dc:language>
  <cp:lastModifiedBy>Mgr.Alena Otrubová</cp:lastModifiedBy>
  <dcterms:modified xsi:type="dcterms:W3CDTF">2002-04-19T08:02:28Z</dcterms:modified>
  <cp:revision>23</cp:revision>
  <dc:subject/>
  <dc:title>Tvorba a distribuce výměnných fondů v okrese Tábor </dc:title>
</cp:coreProperties>
</file>