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013A-29D2-4A53-973D-A41E6A2B7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77724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98400" y="4074480"/>
            <a:ext cx="77724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3951-BD50-4700-B2DE-AFECE737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1080" y="22096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8400" y="40744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1080" y="40744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865C-EF13-46A8-8506-E177AF54B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250236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6400" y="2209680"/>
            <a:ext cx="250236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54040" y="2209680"/>
            <a:ext cx="250236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98400" y="4074480"/>
            <a:ext cx="250236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6400" y="4074480"/>
            <a:ext cx="250236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54040" y="4074480"/>
            <a:ext cx="250236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9A6F-B5C8-44C6-9F42-729908002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52D1D-C7DC-4E22-AA2D-C0051506F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98400" y="2209680"/>
            <a:ext cx="777240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001FE-90E9-4FFB-9AAC-558917D85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77724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C484C-9E8D-46A9-ABA6-A34F1A3D7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37926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1080" y="2209680"/>
            <a:ext cx="37926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65E5D-D423-4E8B-B908-BA9A36153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8970E-ACAF-415C-A33D-48E560906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8E41A-6008-4340-BAD7-BB89EE23A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1080" y="2209680"/>
            <a:ext cx="37926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8400" y="40744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3ED40-ED7F-47F5-B290-FB2C23A4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98400" y="2209680"/>
            <a:ext cx="777240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1F4A-8ED1-43EA-A084-F08754067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37926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1080" y="22096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81080" y="40744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167C2-7FEE-42B7-9C7A-8EEB5749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1080" y="22096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98400" y="4074480"/>
            <a:ext cx="77724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54AB5-5ECF-42FB-B799-CFF71DA9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77724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98400" y="4074480"/>
            <a:ext cx="77724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FEF49-80C3-4069-9995-C1DC5D4F2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1080" y="22096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98400" y="40744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81080" y="40744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AE712-95C4-4B14-BFF2-4024FB667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250236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26400" y="2209680"/>
            <a:ext cx="250236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54040" y="2209680"/>
            <a:ext cx="250236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98400" y="4074480"/>
            <a:ext cx="250236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26400" y="4074480"/>
            <a:ext cx="250236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954040" y="4074480"/>
            <a:ext cx="250236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DA9CF-43A0-4978-BC83-EC1EDE294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77724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6D15-8633-444F-9CDF-464D076F9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37926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080" y="2209680"/>
            <a:ext cx="37926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8497-7725-4964-AD54-50044F203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7616-0A29-4D17-BB50-57006B8A1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F305-59EC-4F5C-A237-1A6DB806B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080" y="2209680"/>
            <a:ext cx="37926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8400" y="40744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C353-D397-41DA-88AF-37C1AD33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37926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080" y="22096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1080" y="40744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0F3C-5AD0-47E6-8A57-D32D698A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080" y="22096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98400" y="4074480"/>
            <a:ext cx="77724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3993-159D-4772-BE33-58A46E0E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1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98400" y="2209680"/>
            <a:ext cx="77724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982800" indent="-19656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5920" indent="-1965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1769040" indent="-19656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1769040" indent="-19656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1769040" indent="-19656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35FDE-52A8-4288-897C-9673F2549535}" type="slidenum"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48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98400" y="6154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36680" y="6154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65680" y="6154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BAE8D-15E3-4949-9DC8-1E2879605913}" type="slidenum"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09480" y="3324240"/>
            <a:ext cx="8001000" cy="374760"/>
            <a:chOff x="609480" y="3324240"/>
            <a:chExt cx="8001000" cy="374760"/>
          </a:xfrm>
        </p:grpSpPr>
        <p:sp>
          <p:nvSpPr>
            <p:cNvPr id="58" name=""/>
            <p:cNvSpPr/>
            <p:nvPr/>
          </p:nvSpPr>
          <p:spPr>
            <a:xfrm>
              <a:off x="609480" y="3470400"/>
              <a:ext cx="800100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15960" y="3324240"/>
              <a:ext cx="7843680" cy="27792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13500000"/>
            </a:gradFill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2440" y="339408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2440" y="347040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22440" y="354636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440" y="337968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2440" y="345600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22440" y="353232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Gatineau CE"/>
                <a:ea typeface="Times New Roman"/>
              </a:rPr>
              <a:t>Budování a distribuce knihovních fondů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Gatineau CE"/>
                <a:ea typeface="Times New Roman"/>
              </a:rPr>
              <a:t>a organizování výměnných souborů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Gatineau CE"/>
                <a:ea typeface="Times New Roman"/>
              </a:rPr>
              <a:t>v okrese Děčín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atineau"/>
              </a:rPr>
              <a:t>Ladislav Zoube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 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Brno 23. – 24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 dubna 2002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tineau CE"/>
              </a:rPr>
              <a:t>Okres Děčín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77724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Gatineau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atineau CE"/>
                <a:ea typeface="Times New Roman"/>
              </a:rPr>
              <a:t>počet obyvatel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133 768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Gatineau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atineau CE"/>
                <a:ea typeface="Times New Roman"/>
              </a:rPr>
              <a:t>počet obcí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52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Gatineau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atineau CE"/>
                <a:ea typeface="Times New Roman"/>
              </a:rPr>
              <a:t>počet veřejných knihoven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63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tineau CE"/>
              </a:rPr>
              <a:t>Knihovny okresu Děčín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77724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Gatinea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místní knihovny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45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Gatinea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profesionální knihovny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cs-CZ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7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Gatineau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Gatineau CE"/>
                <a:ea typeface="Times New Roman"/>
              </a:rPr>
              <a:t>pobočky profesionálních knihoven</a:t>
            </a:r>
            <a:r>
              <a:rPr b="0" lang="cs-CZ" sz="3200" spc="-1" strike="noStrike">
                <a:solidFill>
                  <a:srgbClr val="eaeaea"/>
                </a:solidFill>
                <a:latin typeface="Gatineau CE"/>
              </a:rPr>
              <a:t>    </a:t>
            </a:r>
            <a:r>
              <a:rPr b="0" lang="cs-CZ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11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Gatinea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celkem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63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ffcc66"/>
                </a:solidFill>
                <a:latin typeface="Gatineau"/>
                <a:ea typeface="Times New Roman"/>
              </a:rPr>
              <a:t>Regionální funkce </a:t>
            </a:r>
            <a:br>
              <a:rPr sz="3200"/>
            </a:b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ffcc66"/>
                </a:solidFill>
                <a:latin typeface="Gatineau CE"/>
                <a:ea typeface="Times New Roman"/>
              </a:rPr>
              <a:t>mluvně uzavřená spolupráce</a:t>
            </a:r>
            <a:r>
              <a:rPr b="1" lang="cs-CZ" sz="3200" spc="-1" strike="noStrike">
                <a:solidFill>
                  <a:srgbClr val="ffcc66"/>
                </a:solidFill>
                <a:latin typeface="Gatineau"/>
                <a:ea typeface="Times New Roman"/>
              </a:rPr>
              <a:t> (od r. 1996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77724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Gatineau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Gatineau CE"/>
                <a:ea typeface="Times New Roman"/>
              </a:rPr>
              <a:t>oblast Děčín</a:t>
            </a:r>
            <a:r>
              <a:rPr b="0" lang="cs-CZ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30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31440" indent="-242640" algn="just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Gatinea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Gatineau"/>
                <a:ea typeface="Times New Roman"/>
              </a:rPr>
              <a:t>z toho 3 profesionál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314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Gatinea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oblast Varnsdorf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18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31440" indent="-242640" algn="just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Gatinea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Gatineau"/>
                <a:ea typeface="Times New Roman"/>
              </a:rPr>
              <a:t>z toho 1 profesionál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314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Gatinea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celkem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48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31440" indent="-242640" algn="just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Gatinea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Gatineau"/>
                <a:ea typeface="Times New Roman"/>
              </a:rPr>
              <a:t>z toho 4 profesionál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ffcc66"/>
                </a:solidFill>
                <a:latin typeface="Gatineau"/>
                <a:ea typeface="Times New Roman"/>
              </a:rPr>
              <a:t>Regionální funkce </a:t>
            </a:r>
            <a:br>
              <a:rPr sz="3200"/>
            </a:b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ffcc66"/>
                </a:solidFill>
                <a:latin typeface="Gatineau CE"/>
                <a:ea typeface="Times New Roman"/>
              </a:rPr>
              <a:t>mluvně uzavřená spolupráce</a:t>
            </a:r>
            <a:r>
              <a:rPr b="1" lang="cs-CZ" sz="3200" spc="-1" strike="noStrike">
                <a:solidFill>
                  <a:srgbClr val="ffcc66"/>
                </a:solidFill>
                <a:latin typeface="Gatineau"/>
                <a:ea typeface="Times New Roman"/>
              </a:rPr>
              <a:t> (od r. 1996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77724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-18504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Gatineau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atineau CE"/>
                <a:ea typeface="Times New Roman"/>
              </a:rPr>
              <a:t>počet obyvatel v</a:t>
            </a: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 obcích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185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s 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  <a:ea typeface="Times New Roman"/>
              </a:rPr>
              <a:t>uzavřen</a:t>
            </a: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ými smlouvami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51 00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18504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185040" indent="-18504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Gatineau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atineau CE"/>
                <a:ea typeface="Times New Roman"/>
              </a:rPr>
              <a:t>celková finanční dotace obcí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185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  <a:ea typeface="Times New Roman"/>
              </a:rPr>
              <a:t>na knižní fond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1 050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  <a:ea typeface="Times New Roman"/>
              </a:rPr>
              <a:t> 000,- Kč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18504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185040" indent="-18504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Gatinea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nakoupený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a zpracovaný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185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knižní fond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  <a:ea typeface="Times New Roman"/>
              </a:rPr>
              <a:t> (včetně darů)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7 737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185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185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185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185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185040" indent="-18504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Gatinea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Gatineau"/>
                <a:ea typeface="Times New Roman"/>
              </a:rPr>
              <a:t> 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rganizace výměnných souborů (r.2001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98400" y="2209680"/>
          <a:ext cx="7772400" cy="350532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89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počet souborů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svazky v nic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9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oblast Děčín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558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4 010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9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oblast Varnsdorf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628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9 076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2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celkem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186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3 086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odnota knih ve VF (r.2001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447920" y="1905120"/>
          <a:ext cx="6247800" cy="4419000"/>
        </p:xfrm>
        <a:graphic>
          <a:graphicData uri="http://schemas.openxmlformats.org/drawingml/2006/table">
            <a:tbl>
              <a:tblPr/>
              <a:tblGrid>
                <a:gridCol w="3123720"/>
                <a:gridCol w="3124080"/>
              </a:tblGrid>
              <a:tr h="112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hodnota v Kč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12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oblast Děčín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 4141 742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12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oblast Varnsdorf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844 562 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celkem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 259 304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07:57:08Z</dcterms:created>
  <dc:creator>Mgr.Alena Otrubová</dc:creator>
  <dc:description/>
  <dc:language>en-US</dc:language>
  <cp:lastModifiedBy>Mgr.Alena Otrubová</cp:lastModifiedBy>
  <dcterms:modified xsi:type="dcterms:W3CDTF">2002-04-19T08:01:35Z</dcterms:modified>
  <cp:revision>4</cp:revision>
  <dc:subject/>
  <dc:title>Budování a distribuce knihovních fondů a organizování výměnných souborů v okrese Děčín </dc:title>
</cp:coreProperties>
</file>