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F65-C9BD-48AA-BC22-269D023E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262-75B1-4BF6-B060-F727BDDA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DF0-7434-4F4E-A66D-90DC9FCE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456-C27C-4D1F-88EF-6BAE7BF8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3A16-5EA1-46F7-BF42-5BF38DBE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BE9-5E08-489C-AC2A-EEB1A3FD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9868-674B-4B57-AF10-7B76D31F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5F74-EAAA-44A0-8C40-FA6E1103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272A-60D2-4D8D-A7E0-AC0BC6E0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26C7-8A6D-450B-B85C-6A546176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DE1A-72E6-4636-A919-4734AD1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C91-AC41-41C4-8B61-4420751A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8080-54CF-49DD-B259-9714EEC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74A6-1289-4533-B824-73965154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35C1-E05F-4708-A8F3-A0494A7C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6E8F-9710-41A6-BED4-1CA33F83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84D2-FE19-4ECC-BE66-89F72B91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3AC-50E0-41F2-AC06-B2EF322B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955-F56B-410C-B7DC-8E43E667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EFB-58FD-4F66-B9E8-3ECC8A75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B67-B5A2-4103-B96C-BD3C5405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61A-1C2E-4425-92E4-89E0C01F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AA0-6542-41C4-8835-68E711E7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0E0-9492-4A04-A8A3-62772E7E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9654-00D3-4B62-AD05-1249BA3EF1EB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6887-8D1C-43F2-BC61-0DC331B9CD14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Budování a distribuce knihovních fondů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a organizování výměnných souborů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v okrese Děčín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</a:rPr>
              <a:t>Ladislav Zoub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Brno 23. – 24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 dubna 200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Okres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33 76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cí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veřejných knihoven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Knihovny okresu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míst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profesionál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bočky profesionálních knihove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1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oblast Děčí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3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3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oblast Varnsdorf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8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1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4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 v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obcích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s 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uzavřen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ými smlouvami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1 0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celková finanční dotace obcí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na 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 050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000,- K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nakoupený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a zpracovan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(včetně darů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 73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ganizace výměnných souborů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98400" y="2209680"/>
          <a:ext cx="7772400" cy="3505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očet souborů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vazky v ni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5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 0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2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 07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3 0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dnota knih ve VF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47920" y="1905120"/>
          <a:ext cx="6247800" cy="4419000"/>
        </p:xfrm>
        <a:graphic>
          <a:graphicData uri="http://schemas.openxmlformats.org/drawingml/2006/table">
            <a:tbl>
              <a:tblPr/>
              <a:tblGrid>
                <a:gridCol w="3123720"/>
                <a:gridCol w="3124080"/>
              </a:tblGrid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hodnota v Kč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 4141 74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44 562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 259 30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7:57:08Z</dcterms:created>
  <dc:creator>Mgr.Alena Otrubová</dc:creator>
  <dc:description/>
  <dc:language>en-US</dc:language>
  <cp:lastModifiedBy>Mgr.Alena Otrubová</cp:lastModifiedBy>
  <dcterms:modified xsi:type="dcterms:W3CDTF">2002-04-19T08:01:35Z</dcterms:modified>
  <cp:revision>4</cp:revision>
  <dc:subject/>
  <dc:title>Budování a distribuce knihovních fondů a organizování výměnných souborů v okrese Děčín </dc:title>
</cp:coreProperties>
</file>